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C87-B5DD-4A37-BA27-617899CA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18E-9377-4076-A220-02AC2357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011-8B17-4300-B1EE-614BBF0A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DFF-C188-46E1-9606-1F74EF0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0AD7-5AAA-4CC1-8904-E819381D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C79-F042-4799-BC81-33246C92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258-9AE5-402C-82F9-4C921D22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3AB-D027-4DC1-8E07-8FE17BA9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7E3-EE7D-403B-975B-D349011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CAB2-8615-4784-92A7-05E5313C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30D-309F-416B-B37C-4DB9EE0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3EF-AA99-47C5-87AA-FC1ED0B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7681-14CF-48D8-8B4D-668A9BC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D2D-5114-460E-B57F-0F99F76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0ECE-6ADE-40F0-9E6B-41708EC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54CE-7F76-4FDE-ADCB-74111326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3530-FC1E-45E9-A691-A00F088D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75D-5457-41A0-A741-6835C9B9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2C2-F957-49CA-9F17-DFD8EB9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9BD-FC23-4289-8CF9-B436A97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678-29C3-48A6-93CD-134B5F4E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0D8-18FE-4E9A-999A-0B25935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D07-4181-4EA8-B125-C31CFB4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EC9-3F0F-4D8D-A49C-EBDB3BD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E53F-F8BA-451A-A0FB-B300C28A3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F1E-049B-4DAC-8518-E412764418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Garamond"/>
              </a:rPr>
              <a:t>Behavior Case Study</a:t>
            </a:r>
            <a:endParaRPr b="0" lang="en-US" sz="7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Verdana"/>
              </a:rPr>
              <a:t>Going through the Problem Solving Model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March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or more frequent sessions with counse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social skill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al to another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DOCUM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s to be in B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appropriate for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Level 2 interventions can be altered in frequency or intensity to better reflect the higher supports necessary at Level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ll Behavior Serves a Function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in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pe/Avo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Stimul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ma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same, but ser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ERENT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rives the inter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unction is determined through data col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Questions??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MC900423171[1]"/>
          <p:cNvPicPr/>
          <p:nvPr/>
        </p:nvPicPr>
        <p:blipFill>
          <a:blip r:embed="rId1"/>
          <a:stretch/>
        </p:blipFill>
        <p:spPr>
          <a:xfrm>
            <a:off x="7162920" y="4343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oday’s Session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use a case study approach to follow a case through the different levels of intervention within NHCS’ PSM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read a case, practice using PSM forms to document behavior, and problem solve different interventions of varying int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member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ignificant learned component in most forms of challenging behavior and what has been learned may be “unlearned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ing behavior almost always means some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behavior helps us chang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Challenging behavior and autism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aking Sense-making progress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ilip Whitak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Garamond"/>
              </a:rPr>
              <a:t>What makes it Level 1, 2 or 3 ??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olves the practice of teaching and reinforcing students for displaying school-wide expectations and is delivered to every student in every set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80% of students, this is enough for their succes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ventions that occur ON TOP of Level 1 interventions, involves interventions that are easy to administer and implement with small groups of students and require limited time and staff involv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ut 15% of students will need this level of intervention to be successf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 ON TOP of Level 1 AND Level 2 interventions, involves interventions that are developed by a team and include the support of staff outside the general education set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 Completed Level 1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1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-Wide PB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St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me/School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/Teacher Con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Behavior Management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im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Reinforc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 Opportun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e Level 2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2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 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Tic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Post-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Con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l Down Cor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group / short term work with counse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ual Reminders/C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Contin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-In/Focus on behavior during social times to capitalize on “teachable moment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e Level 3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42:32Z</dcterms:created>
  <dc:creator>swadmin</dc:creator>
  <dc:description/>
  <dc:language>en-US</dc:language>
  <cp:lastModifiedBy>Owner</cp:lastModifiedBy>
  <dcterms:modified xsi:type="dcterms:W3CDTF">2011-02-28T01:21:23Z</dcterms:modified>
  <cp:revision>20</cp:revision>
  <dc:subject/>
  <dc:title>BEHAVIOR BASICS FBA/BIP &amp; INTERVENTIONS</dc:title>
</cp:coreProperties>
</file>